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249-6261-47A1-8743-32B4B5DE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C03-9181-4B6C-BB1A-4A6799FB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350-7CF3-49A5-9D9F-07012C2D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273-D6BD-40B6-9DD9-4725D4BB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E3AF-D380-4DDD-84DB-EDF33E7B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A671-AFC5-48A2-9D20-65D0B1F2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BE7D-4B84-4D24-84B9-3C515666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A824-08B2-432D-B927-F66B01EC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277-4DEB-4BED-99C5-7550506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60D5-2B16-486B-92FB-E15C172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733C-E949-40D4-887D-B1B208D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05C-15AC-47B9-874D-C1CFD109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388-CE75-4074-9E76-342B842E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B04-6A40-4224-8142-CA0EF42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CE3-7888-4EFD-870B-E22E6C4B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35E1-9C68-42EE-AFBB-04189360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0940-7EB8-4EC4-923B-BA78AB65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92FE-1EB1-489E-92DE-E18DA859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FF36-AF77-4914-8D77-7A24320C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BF39-0F27-4E65-9574-E7368D6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4149-CA70-4A20-B789-B0DCF9F9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9F45-037F-4848-AC34-9F277E77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5C0-30FB-45E7-8AEA-AF6B01F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2F5C-E7FF-43B0-A33A-1C4C1F92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D347-AEA7-4686-8419-26A727AE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E2E1-C1E6-485F-95C1-C76F382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44BC-8076-4D4E-BE8C-4203A3EE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F80A-714E-4F73-BA6E-6EC92106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9F55-0C07-4388-B839-1E25CFC1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0D99-0D5A-4279-B94D-2177D12E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6DF-BCF4-4A0C-89D9-69166FDF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322-E5DF-448F-9ABA-2B70EEF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423-DFE2-4797-97D4-36EA33B4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042-3ADF-401C-8195-A1A8599A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2B9-AF6E-4C02-959A-3CAD8B40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CE0-B1BC-4ABE-99F6-D148B3E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1F2D-900D-4D6A-BC33-5EF9CF2CB743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A208-DD61-433B-B90C-147503AE8B0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FE7A-0897-4070-B5FD-FA42D70F27FC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 et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56F-3CC7-4725-A4A2-BC8F3063F83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F78-E21D-4910-88E9-0DF846683FF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B631-9865-41AB-9B2C-02EBBFAFD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89000"/>
            <a:ext cx="8785440" cy="532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69228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uropean Roadmap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 Astroparticle Physic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PE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3D9-B24B-458A-A2E8-5353CA4129D9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1E2D6-8E98-44E3-9296-95A8E3F4E751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35280" y="765000"/>
            <a:ext cx="57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will 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included ?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28080" y="4005360"/>
            <a:ext cx="735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confuse this with the que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belongs to Astroparticle Physics?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unique answer to this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1B2-912B-4026-B5BD-E8AF151CAE8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691ED-62D7-44B5-8FC2-6379020DA3BD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836640"/>
            <a:ext cx="792360" cy="27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558400">
            <a:off x="1692000" y="4869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0000">
            <a:off x="6443280" y="515772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4653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47200">
            <a:off x="1331640" y="443700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66600">
            <a:off x="1692360" y="436572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1063600">
            <a:off x="2050560" y="4220640"/>
            <a:ext cx="216000" cy="14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1140400">
            <a:off x="2411280" y="4149720"/>
            <a:ext cx="21600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107400">
            <a:off x="1618920" y="4005000"/>
            <a:ext cx="504720" cy="155520"/>
          </a:xfrm>
          <a:custGeom>
            <a:avLst/>
            <a:gdLst/>
            <a:ahLst/>
            <a:rect l="l" t="t" r="r" b="b"/>
            <a:pathLst>
              <a:path w="227" h="98">
                <a:moveTo>
                  <a:pt x="0" y="45"/>
                </a:moveTo>
                <a:cubicBezTo>
                  <a:pt x="49" y="71"/>
                  <a:pt x="98" y="98"/>
                  <a:pt x="136" y="91"/>
                </a:cubicBezTo>
                <a:cubicBezTo>
                  <a:pt x="174" y="84"/>
                  <a:pt x="200" y="42"/>
                  <a:pt x="227" y="0"/>
                </a:cubicBezTo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149720"/>
            <a:ext cx="71640" cy="28728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92360" y="3716280"/>
            <a:ext cx="71280" cy="3603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16280"/>
            <a:ext cx="28728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8520" y="3510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Charged Cosmic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GeV-TeV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-324000" y="5300640"/>
            <a:ext cx="1943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6560" y="544500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HE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atm.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542200">
            <a:off x="4643280" y="3860640"/>
            <a:ext cx="720720" cy="7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2492280"/>
            <a:ext cx="627120" cy="576360"/>
          </a:xfrm>
          <a:custGeom>
            <a:avLst/>
            <a:gdLst>
              <a:gd name="textAreaLeft" fmla="*/ 142920 w 627120"/>
              <a:gd name="textAreaRight" fmla="*/ 484200 w 6271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80000" y="2924280"/>
            <a:ext cx="2448000" cy="792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631600">
            <a:off x="5870160" y="2707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Solar ax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440" y="48690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440" y="36450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i.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Hess, 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0614200">
            <a:off x="4482720" y="349992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5720" y="4724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634920" y="2636640"/>
            <a:ext cx="576360" cy="194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41040" y="51577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DM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93080" y="3141360"/>
            <a:ext cx="1150920" cy="1942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36800" y="494172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37480" y="5661000"/>
            <a:ext cx="19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olar </a:t>
            </a:r>
            <a:r>
              <a:rPr b="0" lang="de-DE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upernova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7052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W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933720"/>
            <a:ext cx="0" cy="216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3860640"/>
            <a:ext cx="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88000" y="189000"/>
            <a:ext cx="4356000" cy="2133000"/>
            <a:chOff x="4788000" y="189000"/>
            <a:chExt cx="4356000" cy="2133000"/>
          </a:xfrm>
        </p:grpSpPr>
        <p:sp>
          <p:nvSpPr>
            <p:cNvPr id="176" name=""/>
            <p:cNvSpPr/>
            <p:nvPr/>
          </p:nvSpPr>
          <p:spPr>
            <a:xfrm>
              <a:off x="6372360" y="33336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659280" y="18900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72000" y="62064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5200" y="309600"/>
              <a:ext cx="11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satell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765000"/>
              <a:ext cx="435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(Agile, Gl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CR (Pamela, AM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CR @ extreme energies (EUS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DDE-9173-4AE8-8BF3-22D0D9494B2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1D19B-FD75-4508-B9AC-E2940EABB769}" type="datetime1">
              <a:rPr lang="en-US"/>
              <a:t>07/29/26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558400">
            <a:off x="1115640" y="508464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90520" y="62064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 particles from heaven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 same infrastructure  (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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ly related question (tritium dec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61080" y="551664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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440" y="530064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520080" y="4125960"/>
            <a:ext cx="5702760" cy="1857240"/>
            <a:chOff x="3520080" y="4125960"/>
            <a:chExt cx="5702760" cy="1857240"/>
          </a:xfrm>
        </p:grpSpPr>
        <p:sp>
          <p:nvSpPr>
            <p:cNvPr id="187" name=""/>
            <p:cNvSpPr/>
            <p:nvPr/>
          </p:nvSpPr>
          <p:spPr>
            <a:xfrm>
              <a:off x="3995640" y="4653000"/>
              <a:ext cx="863640" cy="503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00720" y="4365720"/>
              <a:ext cx="2447640" cy="50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0080" y="5157720"/>
              <a:ext cx="47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Oscillations (accelerators) </a:t>
              </a:r>
              <a:r>
                <a:rPr b="0" lang="de-DE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Franklin Gothic Medium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955800">
              <a:off x="6876720" y="4436640"/>
              <a:ext cx="1079640" cy="14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4200" y="412596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Accel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3280" y="3068640"/>
            <a:ext cx="2259360" cy="1152360"/>
            <a:chOff x="4643280" y="3068640"/>
            <a:chExt cx="2259360" cy="1152360"/>
          </a:xfrm>
        </p:grpSpPr>
        <p:sp>
          <p:nvSpPr>
            <p:cNvPr id="193" name=""/>
            <p:cNvSpPr/>
            <p:nvPr/>
          </p:nvSpPr>
          <p:spPr>
            <a:xfrm>
              <a:off x="4856400" y="306864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Laser ax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643280" y="3573360"/>
              <a:ext cx="865440" cy="647640"/>
              <a:chOff x="4643280" y="3573360"/>
              <a:chExt cx="865440" cy="647640"/>
            </a:xfrm>
          </p:grpSpPr>
          <p:sp>
            <p:nvSpPr>
              <p:cNvPr id="195" name=""/>
              <p:cNvSpPr/>
              <p:nvPr/>
            </p:nvSpPr>
            <p:spPr>
              <a:xfrm>
                <a:off x="464328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8800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2917080" y="2852640"/>
            <a:ext cx="1440720" cy="1368360"/>
            <a:chOff x="2917080" y="2852640"/>
            <a:chExt cx="1440720" cy="1368360"/>
          </a:xfrm>
        </p:grpSpPr>
        <p:grpSp>
          <p:nvGrpSpPr>
            <p:cNvPr id="198" name=""/>
            <p:cNvGrpSpPr/>
            <p:nvPr/>
          </p:nvGrpSpPr>
          <p:grpSpPr>
            <a:xfrm>
              <a:off x="3492360" y="3573360"/>
              <a:ext cx="865440" cy="647640"/>
              <a:chOff x="3492360" y="3573360"/>
              <a:chExt cx="865440" cy="64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349236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3708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917080" y="2852640"/>
              <a:ext cx="8622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Medium"/>
                </a:rPr>
                <a:t>m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71120" y="3519360"/>
            <a:ext cx="2216520" cy="1103760"/>
            <a:chOff x="771120" y="3519360"/>
            <a:chExt cx="2216520" cy="1103760"/>
          </a:xfrm>
        </p:grpSpPr>
        <p:sp>
          <p:nvSpPr>
            <p:cNvPr id="203" name=""/>
            <p:cNvSpPr/>
            <p:nvPr/>
          </p:nvSpPr>
          <p:spPr>
            <a:xfrm>
              <a:off x="1835280" y="4292640"/>
              <a:ext cx="79200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6000" y="4365720"/>
              <a:ext cx="431640" cy="21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517600">
              <a:off x="1476000" y="4076640"/>
              <a:ext cx="358920" cy="5032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20" y="351936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Reac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1403280" y="342900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93372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887-3DBF-401D-97D2-41FAF3EA45D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4A86E-0056-4D1B-9FF6-FDC312CC0E46}" type="datetime1">
              <a:rPr lang="en-US"/>
              <a:t>07/29/26</a:t>
            </a:fld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2960" y="3716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Resonance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43280" y="3573360"/>
            <a:ext cx="865440" cy="647640"/>
            <a:chOff x="4643280" y="3573360"/>
            <a:chExt cx="865440" cy="647640"/>
          </a:xfrm>
        </p:grpSpPr>
        <p:sp>
          <p:nvSpPr>
            <p:cNvPr id="212" name=""/>
            <p:cNvSpPr/>
            <p:nvPr/>
          </p:nvSpPr>
          <p:spPr>
            <a:xfrm>
              <a:off x="4643280" y="3573360"/>
              <a:ext cx="865440" cy="216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88000" y="3789360"/>
              <a:ext cx="574560" cy="43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24000" y="476280"/>
            <a:ext cx="555840" cy="647640"/>
            <a:chOff x="5724000" y="476280"/>
            <a:chExt cx="555840" cy="647640"/>
          </a:xfrm>
        </p:grpSpPr>
        <p:sp>
          <p:nvSpPr>
            <p:cNvPr id="215" name=""/>
            <p:cNvSpPr/>
            <p:nvPr/>
          </p:nvSpPr>
          <p:spPr>
            <a:xfrm>
              <a:off x="5724360" y="62064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011280" y="47628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24000" y="90792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95280" y="763560"/>
            <a:ext cx="555840" cy="647640"/>
            <a:chOff x="3995280" y="763560"/>
            <a:chExt cx="555840" cy="647640"/>
          </a:xfrm>
        </p:grpSpPr>
        <p:sp>
          <p:nvSpPr>
            <p:cNvPr id="219" name=""/>
            <p:cNvSpPr/>
            <p:nvPr/>
          </p:nvSpPr>
          <p:spPr>
            <a:xfrm>
              <a:off x="3995640" y="90792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282560" y="76356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995280" y="119520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660720" y="1628640"/>
            <a:ext cx="555840" cy="647640"/>
            <a:chOff x="6660720" y="1628640"/>
            <a:chExt cx="555840" cy="647640"/>
          </a:xfrm>
        </p:grpSpPr>
        <p:sp>
          <p:nvSpPr>
            <p:cNvPr id="223" name=""/>
            <p:cNvSpPr/>
            <p:nvPr/>
          </p:nvSpPr>
          <p:spPr>
            <a:xfrm>
              <a:off x="6661080" y="177300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948000" y="162864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60720" y="206028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4284720" y="7632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1197000"/>
            <a:ext cx="244800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011640" y="907560"/>
            <a:ext cx="93636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42560" y="4221000"/>
            <a:ext cx="2016360" cy="4320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042560" y="4723920"/>
            <a:ext cx="2233800" cy="79236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84360" y="4365720"/>
            <a:ext cx="576000" cy="431640"/>
            <a:chOff x="684360" y="4365720"/>
            <a:chExt cx="576000" cy="431640"/>
          </a:xfrm>
        </p:grpSpPr>
        <p:sp>
          <p:nvSpPr>
            <p:cNvPr id="232" name=""/>
            <p:cNvSpPr/>
            <p:nvPr/>
          </p:nvSpPr>
          <p:spPr>
            <a:xfrm>
              <a:off x="684360" y="4365720"/>
              <a:ext cx="576000" cy="144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0480" y="4509720"/>
              <a:ext cx="382320" cy="287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07480" y="3357720"/>
            <a:ext cx="26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Geo-600, VIR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0480" y="33336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LI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920" y="404640"/>
            <a:ext cx="3238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vita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ves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426-403B-4B10-80C9-0DDCB0BC506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BE8D5-2C08-474B-84DA-E12E35B65702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411280" y="476280"/>
            <a:ext cx="44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o not included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uclear astrophys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vered in nuclear physics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listed under APP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rk Energy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cessary to set the stage for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ully covered by astronomy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ot our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under one roof with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ying fundamental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vity at short d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9E4-51AE-41F3-8C05-102B8572235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1661C-F00B-46A6-9273-1526B47D0712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 the facts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ect questionnaires from all experiments with European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75 spokesperson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turn rate 96% (only 3 mi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cond loop for correction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30 page document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will be available to the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rt communication with the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AUP, German Astroparticle Workshop,             this Town Meeti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302-DA0A-499E-B4AA-EA49819B208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BABA-8A5C-4F2F-8D30-8CF334916258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ntact CERN strategy group (Dec.12) and national roadmap committees</a:t>
            </a:r>
            <a:r>
              <a:rPr b="0" lang="de-DE" sz="2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draft at a PRC meeting in Berlin at        Jan. 16/17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draft to SC Meeting at Jan 23/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discussion with SC and modifications:  place the draft on the web for everybody (mid Februar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communication with ESFRI (ApPEC 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from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eeting in Spring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Roadmap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to SC (May/June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D9B-7CFB-4646-A18B-2A23DC51D6C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85562-A0A0-4114-9AF8-3A07132C8209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mology and early Univers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ncluding dark ma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partic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trino mass (direct and double beta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tic particles (WIMPs, axions, Q-Balls,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netic  monopo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mal Universe: Low energy neut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thermal Universe (gamma, neutrinos, cosmic 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the gravitational 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terferometers and resonant det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47640" y="404640"/>
            <a:ext cx="6419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ections of the Roadmap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655-F87D-4D6D-8150-5293B241D41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D1586-3CC3-4961-B79B-93C8D5D5298B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11280" y="401400"/>
            <a:ext cx="7921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eutrino Mass: single b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Tri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oit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i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KATRIN     KATRIN bol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Rhenium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be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nu-2</a:t>
            </a:r>
            <a:r>
              <a:rPr b="0" lang="it-IT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RE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126828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9440" y="213372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2160" y="5086440"/>
            <a:ext cx="1416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3080" y="2133720"/>
            <a:ext cx="1325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45840" y="4076640"/>
            <a:ext cx="1977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66920" y="4723920"/>
            <a:ext cx="0" cy="360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3320" y="5589720"/>
            <a:ext cx="355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KATRIN 34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633840" y="3141720"/>
            <a:ext cx="792000" cy="244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268000" y="1700280"/>
            <a:ext cx="358920" cy="28872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DCC-FC5A-4593-B3DF-9BD205EF0F52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5AEEA-ACA3-4CAE-A398-F63FB06D6832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62120" y="304920"/>
            <a:ext cx="769608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ouble Beta Experiments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318600" y="1413000"/>
            <a:ext cx="88279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levant neutrino mass parameter 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&gt; 1 meV is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periments are sensitive to (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nuclear matrix element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matrix el. are highly uncertain (at diff. level for diff. nucl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m collaboration of adequate size and expertise aim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 sensitivity down to or below 10 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me redundancy in the choice of nuclei (at least worldw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gorous program to reduce uncertainty of nuclear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lements, at least for a few key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360" y="5516640"/>
            <a:ext cx="77320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International Statement on neutrinoless Double-Beta Decay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94880" y="595008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ept.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983800">
            <a:off x="7247160" y="907920"/>
            <a:ext cx="16027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A28-C740-43F3-B31C-9A5E3A30D42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0A414-279B-4335-A730-D4C58468BB9D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268280"/>
            <a:ext cx="8578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view and assess research propo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Astroparticle Physics at the request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dvise and make recommend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roug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 to the national fu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gencies involved in ApPEC on research propos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mitt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Keep under review current and proposed progra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es in Astroparticle Physics of interest to ApPE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ntribute to a medium and long-term pla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of APP in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16000" y="260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eer Review Committ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9C1-0577-4045-8711-139A4AF0837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33D95-EC87-42AE-B2ED-CE0CAFD1E1DC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288720"/>
            <a:ext cx="8675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utrino Mass: Double Beta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present     next 5 years 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next 10 year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+Majo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ici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0 t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 enrich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M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per-N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O-200 *            EXO 1-10 ton*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BRA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59500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USA with Swiss partc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90160" y="1989000"/>
            <a:ext cx="2722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30-5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2349360"/>
            <a:ext cx="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2BA-0213-4D08-877F-4E82B9A1057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F10D7-79C8-417C-8C61-9F95007E2FD3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8080" y="304920"/>
            <a:ext cx="7620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ark Matter Experi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313920" y="1371600"/>
            <a:ext cx="82252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arch for WIMPs by direct detection method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 most valuable mean to solve the Dark Mat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t present several projects in Europe, US, Ja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im at a sensitivity for the spin-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IMP-nucleon cross section of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urther increase by two orders of magnit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) is conceivable and des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quires detector on the ton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0983800">
            <a:off x="7248240" y="923760"/>
            <a:ext cx="14335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a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188-7B4A-4E8A-8FD2-D71163A49F6D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DFB33-1E0B-4A33-B7E5-26F0E8E0792A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2360" y="685800"/>
            <a:ext cx="8763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current activity in 2 years in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most promising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at that time a clear demonstration of an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nsitivity in the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range should be avail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mon activity across Europ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clear recoil energy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perties of neutron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pact of nuclear form factors or halo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ans of validating a possible sig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 on electron and gamma rejection techniques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C95-84FD-43B9-BB79-F107F58568F3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D7D8C-4729-46C7-B51F-7A7B3FB2D6AE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68360" y="189000"/>
            <a:ext cx="7796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MA/LIBR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MA-1ton 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l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S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delweis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SEBUD R&amp;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GEX-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nius-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74160" y="90792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0732400">
            <a:off x="5098680" y="4292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357-6B60-4314-B986-8C1B7B5ADB26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E6ABF-52D0-44A8-93B1-3A8266339BC7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333360"/>
            <a:ext cx="779616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Zeplin-1 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enon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0 t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Directiona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I, II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rif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1 to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74160" y="105264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0732400">
            <a:off x="5961960" y="551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732400">
            <a:off x="5817600" y="3860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0732400">
            <a:off x="5746320" y="227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1989000"/>
            <a:ext cx="73080" cy="208764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24"/>
                </a:lnTo>
                <a:cubicBezTo>
                  <a:pt x="10800" y="8824"/>
                  <a:pt x="16200" y="9724"/>
                  <a:pt x="21600" y="9724"/>
                </a:cubicBezTo>
                <a:cubicBezTo>
                  <a:pt x="16200" y="9724"/>
                  <a:pt x="10800" y="10624"/>
                  <a:pt x="10800" y="115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96160" y="474516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artic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f DM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een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2DD-4D37-4CF6-A994-4CAF3A7F5FB6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E6CA4-7129-4E92-8771-35C765E5730A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333360"/>
            <a:ext cx="77961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uperheated grains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MPLE (Lis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CASSO (Montreal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23960" y="3284640"/>
            <a:ext cx="5923080" cy="26542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Axion Sear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AS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VLAS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HERA/LHC magnets?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DD1-9393-48DB-AB1B-33931134EC0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DEA36-DA94-40AC-A416-A2B8B1C3DF47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476280"/>
            <a:ext cx="7056720" cy="511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68560" y="568008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9520" y="5475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3440" y="5084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8240" y="3500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520" y="2060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907920"/>
            <a:ext cx="331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836640"/>
            <a:ext cx="2737080" cy="468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04000" y="1195560"/>
            <a:ext cx="792360" cy="5047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1771560"/>
            <a:ext cx="0" cy="1656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1700280"/>
            <a:ext cx="792000" cy="863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2563920"/>
            <a:ext cx="1727280" cy="29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4880" y="3714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ion 2002 (R. Gaitsk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32360" y="2852280"/>
            <a:ext cx="934920" cy="792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647280" y="28155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ross section (p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9960" y="4457880"/>
            <a:ext cx="42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MP-DM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5CF-3821-4C77-B113-BE28A01E258C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BCA36-E573-4C07-A7DD-96DBBC837DF8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185400"/>
            <a:ext cx="7775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Gamma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operating        soon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   aft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ESS               HESS-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Arra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GIC       Magic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hipple </a:t>
            </a:r>
            <a:r>
              <a:rPr b="1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Verita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GO/Y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AGI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G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                        GILDA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83720" y="4292640"/>
            <a:ext cx="2826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2 x 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5940360" y="2781000"/>
            <a:ext cx="1511280" cy="1584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1989000"/>
            <a:ext cx="217440" cy="179892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798920"/>
              <a:gd name="textAreaBottom" fmla="*/ 175212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2944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6800" y="4365720"/>
            <a:ext cx="27457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 5-12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780000" y="3789000"/>
            <a:ext cx="14256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73E-4BAE-4B68-9750-EB1B4ED0E29D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600A5-79D9-4E48-A7EF-437062E04E9D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98560" y="1270080"/>
            <a:ext cx="7416720" cy="41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8560" y="3357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4365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8560" y="227808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800" y="5591160"/>
            <a:ext cx="75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960    1965    1970    1975    1980    1985    1990    1995    2000   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9056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2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7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06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99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20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2840" y="3141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2840" y="2133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2840" y="112536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2840" y="42228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7640" y="4006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5640" y="5373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14920" y="177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2781360"/>
            <a:ext cx="1425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79080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14560" y="5373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8360" y="278136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22920" y="3141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321480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2560" y="357336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64000" y="537372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67640" y="270972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4438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27640" y="472608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87280" y="3862080"/>
            <a:ext cx="1295640" cy="158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130560" y="1846440"/>
            <a:ext cx="16574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82920" y="2854440"/>
            <a:ext cx="6476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88000" y="1269720"/>
            <a:ext cx="136836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340000" y="3646440"/>
            <a:ext cx="1655640" cy="172872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3214800"/>
            <a:ext cx="1008000" cy="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95640" y="3285720"/>
            <a:ext cx="71928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20000" y="2781000"/>
            <a:ext cx="718920" cy="7308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96000" y="2854080"/>
            <a:ext cx="122400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435640" y="4798800"/>
            <a:ext cx="863640" cy="647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20000" y="4078080"/>
            <a:ext cx="718920" cy="431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299280" y="4509720"/>
            <a:ext cx="720720" cy="2890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738920" y="3860280"/>
            <a:ext cx="217800" cy="2178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90160" y="1630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X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97440" y="37180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7c80"/>
                </a:solidFill>
                <a:latin typeface="Arial"/>
              </a:rPr>
              <a:t>MeV-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4520" y="47991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ffff"/>
                </a:solidFill>
                <a:latin typeface="Arial"/>
              </a:rPr>
              <a:t>0.1-1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920" y="333360"/>
            <a:ext cx="83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 Energy Photon Sky: Source Count vs.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63200" y="5950080"/>
            <a:ext cx="46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(modified from M. De Naurois, astro-ph/040936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85080" y="378936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1FC-55AA-4759-B592-B496ED1BC6B6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14BCE-8084-482F-BD88-CC499A91E352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333360"/>
            <a:ext cx="689112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Neutrino Telescop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320760" y="1125360"/>
            <a:ext cx="84549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the aim of constructing a detector of km3 scal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rthern hemisphere, both in view of size an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IceCube: form a single coheren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llecting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the efforts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pare report to ApPEC PRC with following inform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properties of water, incl. seasonal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 using the sam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background and se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comparative simulations about impact of dept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ter properties to some benchmark km3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focussing to the central goals of Nu Telesco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ngle design study in the European FP6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w review in one year (summer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0983800">
            <a:off x="7391160" y="549360"/>
            <a:ext cx="14839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l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DB3-87DF-4783-9AF3-F70EC41FF1EA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B80B5-A113-40B1-B3D5-140FF54C51FF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ouble Bet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Dark Matte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Gamma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Neutrino Telescopes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avitatio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47628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Reviewed in 2002-2005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369400" y="1773360"/>
            <a:ext cx="341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ir: Riccardo Barb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776-74E1-4207-B6FA-F9EB86CCD43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7F676-78CD-4F16-BEA8-0C3276D309CB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0920" y="-3960"/>
            <a:ext cx="889308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High Energy Neutrino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ikal-NT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T200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(Baikal GVD (2015)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eCube (2010)    HyperCube ?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radio+acou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t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sto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M3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tegration of radio and acoustic detection into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utrino interactions in atmosphere (Auger,EUSO), in the moon (radi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tennas), .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8880" y="3573360"/>
            <a:ext cx="3061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50-3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787640" y="3068640"/>
            <a:ext cx="1368360" cy="503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508360" y="4005360"/>
            <a:ext cx="647640" cy="431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A78-6962-4F9C-9708-E0E357AE7A4F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71732-A29E-4F34-8FFF-CA6B1989E669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55080" cy="597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05080" y="1052640"/>
            <a:ext cx="1081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21080" y="763560"/>
            <a:ext cx="4632120" cy="1360800"/>
            <a:chOff x="3421080" y="763560"/>
            <a:chExt cx="4632120" cy="1360800"/>
          </a:xfrm>
        </p:grpSpPr>
        <p:sp>
          <p:nvSpPr>
            <p:cNvPr id="364" name=""/>
            <p:cNvSpPr/>
            <p:nvPr/>
          </p:nvSpPr>
          <p:spPr>
            <a:xfrm>
              <a:off x="6086520" y="76356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50160" y="763560"/>
              <a:ext cx="110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G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1080" y="17254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manda, Baik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562840" y="969840"/>
            <a:ext cx="5912640" cy="1416600"/>
            <a:chOff x="2562840" y="969840"/>
            <a:chExt cx="5912640" cy="1416600"/>
          </a:xfrm>
        </p:grpSpPr>
        <p:sp>
          <p:nvSpPr>
            <p:cNvPr id="368" name=""/>
            <p:cNvSpPr/>
            <p:nvPr/>
          </p:nvSpPr>
          <p:spPr>
            <a:xfrm>
              <a:off x="3324240" y="969840"/>
              <a:ext cx="5151240" cy="1290600"/>
            </a:xfrm>
            <a:custGeom>
              <a:avLst/>
              <a:gdLst/>
              <a:ahLst/>
              <a:rect l="l" t="t" r="r" b="b"/>
              <a:pathLst>
                <a:path w="3245" h="813">
                  <a:moveTo>
                    <a:pt x="0" y="804"/>
                  </a:moveTo>
                  <a:cubicBezTo>
                    <a:pt x="76" y="805"/>
                    <a:pt x="323" y="813"/>
                    <a:pt x="457" y="813"/>
                  </a:cubicBezTo>
                  <a:cubicBezTo>
                    <a:pt x="591" y="813"/>
                    <a:pt x="690" y="810"/>
                    <a:pt x="804" y="804"/>
                  </a:cubicBezTo>
                  <a:cubicBezTo>
                    <a:pt x="918" y="798"/>
                    <a:pt x="1032" y="794"/>
                    <a:pt x="1142" y="777"/>
                  </a:cubicBezTo>
                  <a:cubicBezTo>
                    <a:pt x="1252" y="760"/>
                    <a:pt x="1383" y="728"/>
                    <a:pt x="1462" y="704"/>
                  </a:cubicBezTo>
                  <a:cubicBezTo>
                    <a:pt x="1541" y="680"/>
                    <a:pt x="1575" y="661"/>
                    <a:pt x="1618" y="631"/>
                  </a:cubicBezTo>
                  <a:cubicBezTo>
                    <a:pt x="1661" y="601"/>
                    <a:pt x="1689" y="559"/>
                    <a:pt x="1718" y="521"/>
                  </a:cubicBezTo>
                  <a:cubicBezTo>
                    <a:pt x="1747" y="483"/>
                    <a:pt x="1769" y="448"/>
                    <a:pt x="1792" y="402"/>
                  </a:cubicBezTo>
                  <a:cubicBezTo>
                    <a:pt x="1815" y="356"/>
                    <a:pt x="1829" y="287"/>
                    <a:pt x="1856" y="247"/>
                  </a:cubicBezTo>
                  <a:cubicBezTo>
                    <a:pt x="1883" y="207"/>
                    <a:pt x="1913" y="176"/>
                    <a:pt x="1956" y="164"/>
                  </a:cubicBezTo>
                  <a:cubicBezTo>
                    <a:pt x="1999" y="152"/>
                    <a:pt x="2056" y="164"/>
                    <a:pt x="2112" y="173"/>
                  </a:cubicBezTo>
                  <a:cubicBezTo>
                    <a:pt x="2168" y="182"/>
                    <a:pt x="2224" y="213"/>
                    <a:pt x="2294" y="219"/>
                  </a:cubicBezTo>
                  <a:cubicBezTo>
                    <a:pt x="2364" y="225"/>
                    <a:pt x="2447" y="218"/>
                    <a:pt x="2532" y="210"/>
                  </a:cubicBezTo>
                  <a:cubicBezTo>
                    <a:pt x="2617" y="202"/>
                    <a:pt x="2721" y="191"/>
                    <a:pt x="2806" y="173"/>
                  </a:cubicBezTo>
                  <a:cubicBezTo>
                    <a:pt x="2891" y="155"/>
                    <a:pt x="2971" y="129"/>
                    <a:pt x="3044" y="100"/>
                  </a:cubicBezTo>
                  <a:cubicBezTo>
                    <a:pt x="3117" y="71"/>
                    <a:pt x="3203" y="21"/>
                    <a:pt x="3245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2840" y="19875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10480" y="2995560"/>
            <a:ext cx="5250960" cy="1084680"/>
            <a:chOff x="3210480" y="2995560"/>
            <a:chExt cx="5250960" cy="1084680"/>
          </a:xfrm>
        </p:grpSpPr>
        <p:sp>
          <p:nvSpPr>
            <p:cNvPr id="371" name=""/>
            <p:cNvSpPr/>
            <p:nvPr/>
          </p:nvSpPr>
          <p:spPr>
            <a:xfrm>
              <a:off x="3962520" y="2995560"/>
              <a:ext cx="4498920" cy="849240"/>
            </a:xfrm>
            <a:custGeom>
              <a:avLst/>
              <a:gdLst/>
              <a:ahLst/>
              <a:rect l="l" t="t" r="r" b="b"/>
              <a:pathLst>
                <a:path w="2834" h="535">
                  <a:moveTo>
                    <a:pt x="0" y="531"/>
                  </a:moveTo>
                  <a:cubicBezTo>
                    <a:pt x="81" y="529"/>
                    <a:pt x="335" y="535"/>
                    <a:pt x="484" y="521"/>
                  </a:cubicBezTo>
                  <a:cubicBezTo>
                    <a:pt x="633" y="507"/>
                    <a:pt x="786" y="483"/>
                    <a:pt x="896" y="448"/>
                  </a:cubicBezTo>
                  <a:cubicBezTo>
                    <a:pt x="1006" y="413"/>
                    <a:pt x="1078" y="352"/>
                    <a:pt x="1143" y="311"/>
                  </a:cubicBezTo>
                  <a:cubicBezTo>
                    <a:pt x="1208" y="270"/>
                    <a:pt x="1231" y="206"/>
                    <a:pt x="1289" y="201"/>
                  </a:cubicBezTo>
                  <a:cubicBezTo>
                    <a:pt x="1347" y="196"/>
                    <a:pt x="1425" y="271"/>
                    <a:pt x="1490" y="283"/>
                  </a:cubicBezTo>
                  <a:cubicBezTo>
                    <a:pt x="1555" y="295"/>
                    <a:pt x="1613" y="266"/>
                    <a:pt x="1682" y="274"/>
                  </a:cubicBezTo>
                  <a:cubicBezTo>
                    <a:pt x="1751" y="282"/>
                    <a:pt x="1820" y="324"/>
                    <a:pt x="1902" y="329"/>
                  </a:cubicBezTo>
                  <a:cubicBezTo>
                    <a:pt x="1984" y="334"/>
                    <a:pt x="2095" y="319"/>
                    <a:pt x="2176" y="302"/>
                  </a:cubicBezTo>
                  <a:cubicBezTo>
                    <a:pt x="2257" y="285"/>
                    <a:pt x="2325" y="253"/>
                    <a:pt x="2386" y="229"/>
                  </a:cubicBezTo>
                  <a:cubicBezTo>
                    <a:pt x="2447" y="205"/>
                    <a:pt x="2493" y="179"/>
                    <a:pt x="2542" y="155"/>
                  </a:cubicBezTo>
                  <a:cubicBezTo>
                    <a:pt x="2591" y="131"/>
                    <a:pt x="2630" y="108"/>
                    <a:pt x="2679" y="82"/>
                  </a:cubicBezTo>
                  <a:cubicBezTo>
                    <a:pt x="2728" y="56"/>
                    <a:pt x="2802" y="17"/>
                    <a:pt x="2834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10480" y="36813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946120" y="2995560"/>
            <a:ext cx="1369440" cy="440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UGER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7800" y="2708280"/>
            <a:ext cx="8179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429000"/>
            <a:ext cx="194436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manda,Antares, Baikal, N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3520" y="3645000"/>
            <a:ext cx="2997360" cy="1047600"/>
          </a:xfrm>
          <a:custGeom>
            <a:avLst/>
            <a:gdLst/>
            <a:ahLst/>
            <a:rect l="l" t="t" r="r" b="b"/>
            <a:pathLst>
              <a:path w="1888" h="660">
                <a:moveTo>
                  <a:pt x="0" y="657"/>
                </a:moveTo>
                <a:cubicBezTo>
                  <a:pt x="27" y="655"/>
                  <a:pt x="97" y="658"/>
                  <a:pt x="155" y="657"/>
                </a:cubicBezTo>
                <a:cubicBezTo>
                  <a:pt x="213" y="656"/>
                  <a:pt x="278" y="660"/>
                  <a:pt x="347" y="648"/>
                </a:cubicBezTo>
                <a:cubicBezTo>
                  <a:pt x="416" y="636"/>
                  <a:pt x="500" y="614"/>
                  <a:pt x="567" y="584"/>
                </a:cubicBezTo>
                <a:cubicBezTo>
                  <a:pt x="634" y="554"/>
                  <a:pt x="701" y="495"/>
                  <a:pt x="750" y="465"/>
                </a:cubicBezTo>
                <a:cubicBezTo>
                  <a:pt x="799" y="435"/>
                  <a:pt x="829" y="413"/>
                  <a:pt x="859" y="401"/>
                </a:cubicBezTo>
                <a:cubicBezTo>
                  <a:pt x="889" y="389"/>
                  <a:pt x="892" y="386"/>
                  <a:pt x="932" y="392"/>
                </a:cubicBezTo>
                <a:cubicBezTo>
                  <a:pt x="972" y="398"/>
                  <a:pt x="1041" y="430"/>
                  <a:pt x="1097" y="438"/>
                </a:cubicBezTo>
                <a:cubicBezTo>
                  <a:pt x="1153" y="446"/>
                  <a:pt x="1203" y="451"/>
                  <a:pt x="1271" y="438"/>
                </a:cubicBezTo>
                <a:cubicBezTo>
                  <a:pt x="1339" y="425"/>
                  <a:pt x="1445" y="385"/>
                  <a:pt x="1504" y="360"/>
                </a:cubicBezTo>
                <a:cubicBezTo>
                  <a:pt x="1563" y="335"/>
                  <a:pt x="1591" y="311"/>
                  <a:pt x="1624" y="288"/>
                </a:cubicBezTo>
                <a:cubicBezTo>
                  <a:pt x="1657" y="265"/>
                  <a:pt x="1676" y="251"/>
                  <a:pt x="1704" y="224"/>
                </a:cubicBezTo>
                <a:cubicBezTo>
                  <a:pt x="1732" y="197"/>
                  <a:pt x="1761" y="165"/>
                  <a:pt x="1792" y="128"/>
                </a:cubicBezTo>
                <a:cubicBezTo>
                  <a:pt x="1823" y="91"/>
                  <a:pt x="1868" y="27"/>
                  <a:pt x="1888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1440" y="449748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486900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7440" y="4508640"/>
            <a:ext cx="1584360" cy="67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new tech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850120" y="1987560"/>
            <a:ext cx="5625360" cy="1398960"/>
            <a:chOff x="2850120" y="1987560"/>
            <a:chExt cx="5625360" cy="1398960"/>
          </a:xfrm>
        </p:grpSpPr>
        <p:sp>
          <p:nvSpPr>
            <p:cNvPr id="381" name=""/>
            <p:cNvSpPr/>
            <p:nvPr/>
          </p:nvSpPr>
          <p:spPr>
            <a:xfrm>
              <a:off x="2850120" y="298764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3240" y="1987560"/>
              <a:ext cx="163620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  G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12960" y="2333520"/>
              <a:ext cx="4862520" cy="871560"/>
            </a:xfrm>
            <a:custGeom>
              <a:avLst/>
              <a:gdLst/>
              <a:ahLst/>
              <a:rect l="l" t="t" r="r" b="b"/>
              <a:pathLst>
                <a:path w="3063" h="549">
                  <a:moveTo>
                    <a:pt x="0" y="549"/>
                  </a:moveTo>
                  <a:cubicBezTo>
                    <a:pt x="76" y="546"/>
                    <a:pt x="301" y="544"/>
                    <a:pt x="458" y="530"/>
                  </a:cubicBezTo>
                  <a:cubicBezTo>
                    <a:pt x="615" y="516"/>
                    <a:pt x="799" y="501"/>
                    <a:pt x="942" y="466"/>
                  </a:cubicBezTo>
                  <a:cubicBezTo>
                    <a:pt x="1085" y="431"/>
                    <a:pt x="1201" y="381"/>
                    <a:pt x="1317" y="320"/>
                  </a:cubicBezTo>
                  <a:cubicBezTo>
                    <a:pt x="1433" y="259"/>
                    <a:pt x="1524" y="132"/>
                    <a:pt x="1637" y="101"/>
                  </a:cubicBezTo>
                  <a:cubicBezTo>
                    <a:pt x="1750" y="70"/>
                    <a:pt x="1881" y="131"/>
                    <a:pt x="1994" y="137"/>
                  </a:cubicBezTo>
                  <a:cubicBezTo>
                    <a:pt x="2107" y="143"/>
                    <a:pt x="2215" y="143"/>
                    <a:pt x="2314" y="137"/>
                  </a:cubicBezTo>
                  <a:cubicBezTo>
                    <a:pt x="2413" y="131"/>
                    <a:pt x="2503" y="113"/>
                    <a:pt x="2588" y="101"/>
                  </a:cubicBezTo>
                  <a:cubicBezTo>
                    <a:pt x="2673" y="89"/>
                    <a:pt x="2747" y="81"/>
                    <a:pt x="2826" y="64"/>
                  </a:cubicBezTo>
                  <a:cubicBezTo>
                    <a:pt x="2905" y="47"/>
                    <a:pt x="3014" y="13"/>
                    <a:pt x="3063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95280" y="189000"/>
            <a:ext cx="8499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chieved and expected sensitivities to diffuse flu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2708280"/>
            <a:ext cx="1224000" cy="289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A5B-261E-4B87-B3E1-7F5196205E77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8E79B-35D8-47E1-AF36-3C6988D17051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52360" y="765000"/>
            <a:ext cx="7056720" cy="511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7440" y="587700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240" y="836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160" y="5373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2960" y="378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4240" y="234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81440" y="1484280"/>
            <a:ext cx="1366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48000" y="1484280"/>
            <a:ext cx="79236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40360" y="2349360"/>
            <a:ext cx="792000" cy="7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32360" y="3068640"/>
            <a:ext cx="1440000" cy="144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90792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2360" y="907920"/>
            <a:ext cx="289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27920" y="4651200"/>
            <a:ext cx="194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-10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67280" y="1197000"/>
            <a:ext cx="1009440" cy="2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1413000"/>
            <a:ext cx="107964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6360" y="2492280"/>
            <a:ext cx="151128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9200" y="3571920"/>
            <a:ext cx="10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E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979560"/>
            <a:ext cx="62150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m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jus  Macro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ikal/Amand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eCube/K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79000" y="906480"/>
            <a:ext cx="347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 AGAS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G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ita, Au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360" y="18720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Flux * E²  (GeV/ cm² sec 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01120" y="458136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nsitivity to HE diff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trino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D83-B7B7-40B1-9C6E-6E45BE7BFCE9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9855E-A6F7-4A9C-B4DD-D32A87F81323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72720" y="106560"/>
            <a:ext cx="8867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EAM                                ballo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TIC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MELA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) Towards the end of the galac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scade-Grande  |2008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..2010|  IceTop/IceCube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6..2008|  Tunk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3080" y="2997360"/>
            <a:ext cx="239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~20 M€, 2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FFB-C94A-4AE2-859F-E618E32413C5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4F0C4-C6BD-4448-9E24-1AEA0EC64736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79640" y="289440"/>
            <a:ext cx="795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c) High and Ultra-high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ger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Auger North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USO (&gt; 2015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sterbork (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) New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PES, Coda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FA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2276640"/>
            <a:ext cx="3673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~ 50 M€ per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4653000"/>
            <a:ext cx="2592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25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292720" y="3860280"/>
            <a:ext cx="0" cy="792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823-D729-4BE3-967C-8C667308B0EE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A6637-0235-493B-A742-52FAE8CBCAD0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Integrated Ape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55320" y="997200"/>
            <a:ext cx="7763400" cy="5468040"/>
            <a:chOff x="355320" y="997200"/>
            <a:chExt cx="7763400" cy="5468040"/>
          </a:xfrm>
        </p:grpSpPr>
        <p:sp>
          <p:nvSpPr>
            <p:cNvPr id="418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8360" y="46360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68360" y="345564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8360" y="227520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68360" y="10936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996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24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232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932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460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5592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72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6836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581652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46360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15440" y="345564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5440" y="227520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5440" y="10936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68360" y="58165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36836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2996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2324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16232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932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02460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95592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8872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54480" y="5460840"/>
              <a:ext cx="187200" cy="355680"/>
            </a:xfrm>
            <a:custGeom>
              <a:avLst/>
              <a:gdLst/>
              <a:ahLst/>
              <a:rect l="l" t="t" r="r" b="b"/>
              <a:pathLst>
                <a:path w="248" h="477">
                  <a:moveTo>
                    <a:pt x="0" y="477"/>
                  </a:moveTo>
                  <a:lnTo>
                    <a:pt x="31" y="417"/>
                  </a:lnTo>
                  <a:lnTo>
                    <a:pt x="62" y="353"/>
                  </a:lnTo>
                  <a:lnTo>
                    <a:pt x="93" y="290"/>
                  </a:lnTo>
                  <a:lnTo>
                    <a:pt x="124" y="226"/>
                  </a:lnTo>
                  <a:lnTo>
                    <a:pt x="155" y="165"/>
                  </a:lnTo>
                  <a:lnTo>
                    <a:pt x="186" y="106"/>
                  </a:lnTo>
                  <a:lnTo>
                    <a:pt x="202" y="76"/>
                  </a:lnTo>
                  <a:lnTo>
                    <a:pt x="217" y="50"/>
                  </a:lnTo>
                  <a:lnTo>
                    <a:pt x="233" y="25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1680" y="525240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4"/>
                  </a:lnTo>
                  <a:lnTo>
                    <a:pt x="62" y="194"/>
                  </a:lnTo>
                  <a:lnTo>
                    <a:pt x="93" y="156"/>
                  </a:lnTo>
                  <a:lnTo>
                    <a:pt x="124" y="122"/>
                  </a:lnTo>
                  <a:lnTo>
                    <a:pt x="153" y="89"/>
                  </a:lnTo>
                  <a:lnTo>
                    <a:pt x="184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27800" y="5106600"/>
              <a:ext cx="186120" cy="14580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0" y="198"/>
                  </a:moveTo>
                  <a:lnTo>
                    <a:pt x="31" y="168"/>
                  </a:lnTo>
                  <a:lnTo>
                    <a:pt x="62" y="142"/>
                  </a:lnTo>
                  <a:lnTo>
                    <a:pt x="93" y="115"/>
                  </a:lnTo>
                  <a:lnTo>
                    <a:pt x="122" y="92"/>
                  </a:lnTo>
                  <a:lnTo>
                    <a:pt x="184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13920" y="4990680"/>
              <a:ext cx="185760" cy="115920"/>
            </a:xfrm>
            <a:custGeom>
              <a:avLst/>
              <a:gdLst/>
              <a:ahLst/>
              <a:rect l="l" t="t" r="r" b="b"/>
              <a:pathLst>
                <a:path w="246" h="155">
                  <a:moveTo>
                    <a:pt x="0" y="155"/>
                  </a:moveTo>
                  <a:lnTo>
                    <a:pt x="62" y="112"/>
                  </a:lnTo>
                  <a:lnTo>
                    <a:pt x="122" y="73"/>
                  </a:lnTo>
                  <a:lnTo>
                    <a:pt x="184" y="3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99680" y="4898160"/>
              <a:ext cx="187200" cy="92160"/>
            </a:xfrm>
            <a:custGeom>
              <a:avLst/>
              <a:gdLst/>
              <a:ahLst/>
              <a:rect l="l" t="t" r="r" b="b"/>
              <a:pathLst>
                <a:path w="247" h="125">
                  <a:moveTo>
                    <a:pt x="0" y="125"/>
                  </a:moveTo>
                  <a:lnTo>
                    <a:pt x="62" y="92"/>
                  </a:lnTo>
                  <a:lnTo>
                    <a:pt x="124" y="59"/>
                  </a:lnTo>
                  <a:lnTo>
                    <a:pt x="186" y="3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87240" y="481932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4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73000" y="475092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1">
                  <a:moveTo>
                    <a:pt x="0" y="91"/>
                  </a:moveTo>
                  <a:lnTo>
                    <a:pt x="62" y="68"/>
                  </a:ln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9120" y="4689720"/>
              <a:ext cx="185760" cy="60840"/>
            </a:xfrm>
            <a:custGeom>
              <a:avLst/>
              <a:gdLst/>
              <a:ahLst/>
              <a:rect l="l" t="t" r="r" b="b"/>
              <a:pathLst>
                <a:path w="247" h="81">
                  <a:moveTo>
                    <a:pt x="0" y="81"/>
                  </a:moveTo>
                  <a:lnTo>
                    <a:pt x="123" y="4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4880" y="4636080"/>
              <a:ext cx="187200" cy="53640"/>
            </a:xfrm>
            <a:custGeom>
              <a:avLst/>
              <a:gdLst/>
              <a:ahLst/>
              <a:rect l="l" t="t" r="r" b="b"/>
              <a:pathLst>
                <a:path w="247" h="74">
                  <a:moveTo>
                    <a:pt x="0" y="74"/>
                  </a:moveTo>
                  <a:lnTo>
                    <a:pt x="123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7240" y="4990680"/>
              <a:ext cx="185760" cy="356760"/>
            </a:xfrm>
            <a:custGeom>
              <a:avLst/>
              <a:gdLst/>
              <a:ahLst/>
              <a:rect l="l" t="t" r="r" b="b"/>
              <a:pathLst>
                <a:path w="246" h="479">
                  <a:moveTo>
                    <a:pt x="0" y="479"/>
                  </a:moveTo>
                  <a:lnTo>
                    <a:pt x="31" y="417"/>
                  </a:lnTo>
                  <a:lnTo>
                    <a:pt x="62" y="356"/>
                  </a:lnTo>
                  <a:lnTo>
                    <a:pt x="93" y="291"/>
                  </a:lnTo>
                  <a:lnTo>
                    <a:pt x="123" y="227"/>
                  </a:lnTo>
                  <a:lnTo>
                    <a:pt x="154" y="166"/>
                  </a:lnTo>
                  <a:lnTo>
                    <a:pt x="185" y="107"/>
                  </a:lnTo>
                  <a:lnTo>
                    <a:pt x="201" y="79"/>
                  </a:lnTo>
                  <a:lnTo>
                    <a:pt x="216" y="51"/>
                  </a:lnTo>
                  <a:lnTo>
                    <a:pt x="232" y="2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3000" y="4783680"/>
              <a:ext cx="186120" cy="206640"/>
            </a:xfrm>
            <a:custGeom>
              <a:avLst/>
              <a:gdLst/>
              <a:ahLst/>
              <a:rect l="l" t="t" r="r" b="b"/>
              <a:pathLst>
                <a:path w="246" h="278">
                  <a:moveTo>
                    <a:pt x="0" y="278"/>
                  </a:moveTo>
                  <a:lnTo>
                    <a:pt x="15" y="255"/>
                  </a:lnTo>
                  <a:lnTo>
                    <a:pt x="31" y="234"/>
                  </a:lnTo>
                  <a:lnTo>
                    <a:pt x="62" y="193"/>
                  </a:lnTo>
                  <a:lnTo>
                    <a:pt x="93" y="156"/>
                  </a:lnTo>
                  <a:lnTo>
                    <a:pt x="123" y="122"/>
                  </a:lnTo>
                  <a:lnTo>
                    <a:pt x="154" y="90"/>
                  </a:lnTo>
                  <a:lnTo>
                    <a:pt x="185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9120" y="4636080"/>
              <a:ext cx="185760" cy="14724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3" y="91"/>
                  </a:lnTo>
                  <a:lnTo>
                    <a:pt x="185" y="44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4880" y="4521600"/>
              <a:ext cx="187200" cy="11412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1" y="110"/>
                  </a:lnTo>
                  <a:lnTo>
                    <a:pt x="123" y="72"/>
                  </a:lnTo>
                  <a:lnTo>
                    <a:pt x="185" y="3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440" y="442800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18200" y="4348800"/>
              <a:ext cx="186120" cy="7884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2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04320" y="4280400"/>
              <a:ext cx="18576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2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90080" y="4219560"/>
              <a:ext cx="186120" cy="6048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76200" y="4165920"/>
              <a:ext cx="18576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3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2320" y="4116600"/>
              <a:ext cx="185760" cy="48960"/>
            </a:xfrm>
            <a:custGeom>
              <a:avLst/>
              <a:gdLst/>
              <a:ahLst/>
              <a:rect l="l" t="t" r="r" b="b"/>
              <a:pathLst>
                <a:path w="246" h="67">
                  <a:moveTo>
                    <a:pt x="0" y="67"/>
                  </a:moveTo>
                  <a:lnTo>
                    <a:pt x="122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8080" y="4073400"/>
              <a:ext cx="18612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4200" y="4032000"/>
              <a:ext cx="187200" cy="41400"/>
            </a:xfrm>
            <a:custGeom>
              <a:avLst/>
              <a:gdLst/>
              <a:ahLst/>
              <a:rect l="l" t="t" r="r" b="b"/>
              <a:pathLst>
                <a:path w="247" h="56">
                  <a:moveTo>
                    <a:pt x="0" y="56"/>
                  </a:moveTo>
                  <a:lnTo>
                    <a:pt x="123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1760" y="3993120"/>
              <a:ext cx="185760" cy="38520"/>
            </a:xfrm>
            <a:custGeom>
              <a:avLst/>
              <a:gdLst/>
              <a:ahLst/>
              <a:rect l="l" t="t" r="r" b="b"/>
              <a:pathLst>
                <a:path w="246" h="51">
                  <a:moveTo>
                    <a:pt x="0" y="51"/>
                  </a:moveTo>
                  <a:lnTo>
                    <a:pt x="12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7520" y="3957120"/>
              <a:ext cx="185760" cy="35640"/>
            </a:xfrm>
            <a:custGeom>
              <a:avLst/>
              <a:gdLst/>
              <a:ahLst/>
              <a:rect l="l" t="t" r="r" b="b"/>
              <a:pathLst>
                <a:path w="246" h="47">
                  <a:moveTo>
                    <a:pt x="0" y="47"/>
                  </a:moveTo>
                  <a:lnTo>
                    <a:pt x="122" y="2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90080" y="4750920"/>
              <a:ext cx="186120" cy="501480"/>
            </a:xfrm>
            <a:custGeom>
              <a:avLst/>
              <a:gdLst/>
              <a:ahLst/>
              <a:rect l="l" t="t" r="r" b="b"/>
              <a:pathLst>
                <a:path w="248" h="675">
                  <a:moveTo>
                    <a:pt x="0" y="675"/>
                  </a:moveTo>
                  <a:lnTo>
                    <a:pt x="31" y="589"/>
                  </a:lnTo>
                  <a:lnTo>
                    <a:pt x="62" y="504"/>
                  </a:lnTo>
                  <a:lnTo>
                    <a:pt x="124" y="330"/>
                  </a:lnTo>
                  <a:lnTo>
                    <a:pt x="155" y="244"/>
                  </a:lnTo>
                  <a:lnTo>
                    <a:pt x="186" y="160"/>
                  </a:lnTo>
                  <a:lnTo>
                    <a:pt x="217" y="79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76200" y="4334040"/>
              <a:ext cx="185760" cy="416520"/>
            </a:xfrm>
            <a:custGeom>
              <a:avLst/>
              <a:gdLst/>
              <a:ahLst/>
              <a:rect l="l" t="t" r="r" b="b"/>
              <a:pathLst>
                <a:path w="246" h="560">
                  <a:moveTo>
                    <a:pt x="0" y="560"/>
                  </a:moveTo>
                  <a:lnTo>
                    <a:pt x="31" y="483"/>
                  </a:lnTo>
                  <a:lnTo>
                    <a:pt x="61" y="405"/>
                  </a:lnTo>
                  <a:lnTo>
                    <a:pt x="92" y="330"/>
                  </a:lnTo>
                  <a:lnTo>
                    <a:pt x="123" y="256"/>
                  </a:lnTo>
                  <a:lnTo>
                    <a:pt x="153" y="186"/>
                  </a:lnTo>
                  <a:lnTo>
                    <a:pt x="169" y="152"/>
                  </a:lnTo>
                  <a:lnTo>
                    <a:pt x="184" y="119"/>
                  </a:lnTo>
                  <a:lnTo>
                    <a:pt x="200" y="87"/>
                  </a:lnTo>
                  <a:lnTo>
                    <a:pt x="215" y="57"/>
                  </a:lnTo>
                  <a:lnTo>
                    <a:pt x="231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62320" y="4107960"/>
              <a:ext cx="185760" cy="226080"/>
            </a:xfrm>
            <a:custGeom>
              <a:avLst/>
              <a:gdLst/>
              <a:ahLst/>
              <a:rect l="l" t="t" r="r" b="b"/>
              <a:pathLst>
                <a:path w="246" h="304">
                  <a:moveTo>
                    <a:pt x="0" y="304"/>
                  </a:moveTo>
                  <a:lnTo>
                    <a:pt x="14" y="277"/>
                  </a:lnTo>
                  <a:lnTo>
                    <a:pt x="31" y="254"/>
                  </a:lnTo>
                  <a:lnTo>
                    <a:pt x="45" y="230"/>
                  </a:lnTo>
                  <a:lnTo>
                    <a:pt x="61" y="208"/>
                  </a:lnTo>
                  <a:lnTo>
                    <a:pt x="76" y="188"/>
                  </a:lnTo>
                  <a:lnTo>
                    <a:pt x="92" y="167"/>
                  </a:lnTo>
                  <a:lnTo>
                    <a:pt x="122" y="130"/>
                  </a:lnTo>
                  <a:lnTo>
                    <a:pt x="153" y="96"/>
                  </a:lnTo>
                  <a:lnTo>
                    <a:pt x="184" y="6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8080" y="3951720"/>
              <a:ext cx="186120" cy="156240"/>
            </a:xfrm>
            <a:custGeom>
              <a:avLst/>
              <a:gdLst/>
              <a:ahLst/>
              <a:rect l="l" t="t" r="r" b="b"/>
              <a:pathLst>
                <a:path w="246" h="210">
                  <a:moveTo>
                    <a:pt x="0" y="210"/>
                  </a:moveTo>
                  <a:lnTo>
                    <a:pt x="31" y="180"/>
                  </a:lnTo>
                  <a:lnTo>
                    <a:pt x="61" y="150"/>
                  </a:lnTo>
                  <a:lnTo>
                    <a:pt x="92" y="122"/>
                  </a:lnTo>
                  <a:lnTo>
                    <a:pt x="122" y="96"/>
                  </a:lnTo>
                  <a:lnTo>
                    <a:pt x="153" y="70"/>
                  </a:lnTo>
                  <a:lnTo>
                    <a:pt x="18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4200" y="3832560"/>
              <a:ext cx="187200" cy="118800"/>
            </a:xfrm>
            <a:custGeom>
              <a:avLst/>
              <a:gdLst/>
              <a:ahLst/>
              <a:rect l="l" t="t" r="r" b="b"/>
              <a:pathLst>
                <a:path w="247" h="161">
                  <a:moveTo>
                    <a:pt x="0" y="161"/>
                  </a:moveTo>
                  <a:lnTo>
                    <a:pt x="62" y="117"/>
                  </a:lnTo>
                  <a:lnTo>
                    <a:pt x="123" y="75"/>
                  </a:lnTo>
                  <a:lnTo>
                    <a:pt x="185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1760" y="3734280"/>
              <a:ext cx="185760" cy="97920"/>
            </a:xfrm>
            <a:custGeom>
              <a:avLst/>
              <a:gdLst/>
              <a:ahLst/>
              <a:rect l="l" t="t" r="r" b="b"/>
              <a:pathLst>
                <a:path w="246" h="131">
                  <a:moveTo>
                    <a:pt x="0" y="131"/>
                  </a:moveTo>
                  <a:lnTo>
                    <a:pt x="62" y="96"/>
                  </a:lnTo>
                  <a:lnTo>
                    <a:pt x="124" y="62"/>
                  </a:lnTo>
                  <a:lnTo>
                    <a:pt x="18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7520" y="3654000"/>
              <a:ext cx="185760" cy="80280"/>
            </a:xfrm>
            <a:custGeom>
              <a:avLst/>
              <a:gdLst/>
              <a:ahLst/>
              <a:rect l="l" t="t" r="r" b="b"/>
              <a:pathLst>
                <a:path w="246" h="109">
                  <a:moveTo>
                    <a:pt x="0" y="109"/>
                  </a:moveTo>
                  <a:lnTo>
                    <a:pt x="62" y="80"/>
                  </a:lnTo>
                  <a:lnTo>
                    <a:pt x="122" y="52"/>
                  </a:lnTo>
                  <a:lnTo>
                    <a:pt x="18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93280" y="3582360"/>
              <a:ext cx="186120" cy="7128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0" y="94"/>
                  </a:moveTo>
                  <a:lnTo>
                    <a:pt x="62" y="69"/>
                  </a:lnTo>
                  <a:lnTo>
                    <a:pt x="122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79400" y="3519720"/>
              <a:ext cx="187200" cy="62280"/>
            </a:xfrm>
            <a:custGeom>
              <a:avLst/>
              <a:gdLst/>
              <a:ahLst/>
              <a:rect l="l" t="t" r="r" b="b"/>
              <a:pathLst>
                <a:path w="248" h="84">
                  <a:moveTo>
                    <a:pt x="0" y="84"/>
                  </a:moveTo>
                  <a:lnTo>
                    <a:pt x="62" y="62"/>
                  </a:lnTo>
                  <a:lnTo>
                    <a:pt x="124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66960" y="3924720"/>
              <a:ext cx="185760" cy="711360"/>
            </a:xfrm>
            <a:custGeom>
              <a:avLst/>
              <a:gdLst/>
              <a:ahLst/>
              <a:rect l="l" t="t" r="r" b="b"/>
              <a:pathLst>
                <a:path w="246" h="955">
                  <a:moveTo>
                    <a:pt x="0" y="955"/>
                  </a:moveTo>
                  <a:lnTo>
                    <a:pt x="31" y="834"/>
                  </a:lnTo>
                  <a:lnTo>
                    <a:pt x="62" y="713"/>
                  </a:lnTo>
                  <a:lnTo>
                    <a:pt x="93" y="591"/>
                  </a:lnTo>
                  <a:lnTo>
                    <a:pt x="122" y="469"/>
                  </a:lnTo>
                  <a:lnTo>
                    <a:pt x="153" y="348"/>
                  </a:lnTo>
                  <a:lnTo>
                    <a:pt x="184" y="229"/>
                  </a:lnTo>
                  <a:lnTo>
                    <a:pt x="215" y="112"/>
                  </a:lnTo>
                  <a:lnTo>
                    <a:pt x="231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52720" y="3320280"/>
              <a:ext cx="185760" cy="604080"/>
            </a:xfrm>
            <a:custGeom>
              <a:avLst/>
              <a:gdLst/>
              <a:ahLst/>
              <a:rect l="l" t="t" r="r" b="b"/>
              <a:pathLst>
                <a:path w="246" h="811">
                  <a:moveTo>
                    <a:pt x="0" y="811"/>
                  </a:moveTo>
                  <a:lnTo>
                    <a:pt x="31" y="699"/>
                  </a:lnTo>
                  <a:lnTo>
                    <a:pt x="62" y="587"/>
                  </a:lnTo>
                  <a:lnTo>
                    <a:pt x="93" y="477"/>
                  </a:lnTo>
                  <a:lnTo>
                    <a:pt x="107" y="422"/>
                  </a:lnTo>
                  <a:lnTo>
                    <a:pt x="122" y="368"/>
                  </a:lnTo>
                  <a:lnTo>
                    <a:pt x="138" y="316"/>
                  </a:lnTo>
                  <a:lnTo>
                    <a:pt x="153" y="265"/>
                  </a:lnTo>
                  <a:lnTo>
                    <a:pt x="169" y="215"/>
                  </a:lnTo>
                  <a:lnTo>
                    <a:pt x="184" y="168"/>
                  </a:lnTo>
                  <a:lnTo>
                    <a:pt x="200" y="122"/>
                  </a:lnTo>
                  <a:lnTo>
                    <a:pt x="215" y="79"/>
                  </a:lnTo>
                  <a:lnTo>
                    <a:pt x="231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8480" y="3051000"/>
              <a:ext cx="186120" cy="269280"/>
            </a:xfrm>
            <a:custGeom>
              <a:avLst/>
              <a:gdLst/>
              <a:ahLst/>
              <a:rect l="l" t="t" r="r" b="b"/>
              <a:pathLst>
                <a:path w="246" h="363">
                  <a:moveTo>
                    <a:pt x="0" y="363"/>
                  </a:moveTo>
                  <a:lnTo>
                    <a:pt x="14" y="327"/>
                  </a:lnTo>
                  <a:lnTo>
                    <a:pt x="31" y="295"/>
                  </a:lnTo>
                  <a:lnTo>
                    <a:pt x="45" y="265"/>
                  </a:lnTo>
                  <a:lnTo>
                    <a:pt x="62" y="237"/>
                  </a:lnTo>
                  <a:lnTo>
                    <a:pt x="76" y="212"/>
                  </a:lnTo>
                  <a:lnTo>
                    <a:pt x="93" y="189"/>
                  </a:lnTo>
                  <a:lnTo>
                    <a:pt x="107" y="167"/>
                  </a:lnTo>
                  <a:lnTo>
                    <a:pt x="122" y="146"/>
                  </a:lnTo>
                  <a:lnTo>
                    <a:pt x="138" y="125"/>
                  </a:lnTo>
                  <a:lnTo>
                    <a:pt x="153" y="108"/>
                  </a:lnTo>
                  <a:lnTo>
                    <a:pt x="184" y="71"/>
                  </a:lnTo>
                  <a:lnTo>
                    <a:pt x="215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24600" y="2873880"/>
              <a:ext cx="187200" cy="177120"/>
            </a:xfrm>
            <a:custGeom>
              <a:avLst/>
              <a:gdLst/>
              <a:ahLst/>
              <a:rect l="l" t="t" r="r" b="b"/>
              <a:pathLst>
                <a:path w="247" h="237">
                  <a:moveTo>
                    <a:pt x="0" y="237"/>
                  </a:moveTo>
                  <a:lnTo>
                    <a:pt x="31" y="202"/>
                  </a:lnTo>
                  <a:lnTo>
                    <a:pt x="62" y="168"/>
                  </a:lnTo>
                  <a:lnTo>
                    <a:pt x="93" y="137"/>
                  </a:lnTo>
                  <a:lnTo>
                    <a:pt x="124" y="107"/>
                  </a:lnTo>
                  <a:lnTo>
                    <a:pt x="154" y="80"/>
                  </a:lnTo>
                  <a:lnTo>
                    <a:pt x="185" y="52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12160" y="2744640"/>
              <a:ext cx="185760" cy="129240"/>
            </a:xfrm>
            <a:custGeom>
              <a:avLst/>
              <a:gdLst/>
              <a:ahLst/>
              <a:rect l="l" t="t" r="r" b="b"/>
              <a:pathLst>
                <a:path w="246" h="175">
                  <a:moveTo>
                    <a:pt x="0" y="175"/>
                  </a:moveTo>
                  <a:lnTo>
                    <a:pt x="31" y="150"/>
                  </a:lnTo>
                  <a:lnTo>
                    <a:pt x="62" y="126"/>
                  </a:lnTo>
                  <a:lnTo>
                    <a:pt x="124" y="81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7920" y="2640240"/>
              <a:ext cx="185760" cy="10404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40"/>
                  </a:moveTo>
                  <a:lnTo>
                    <a:pt x="62" y="101"/>
                  </a:lnTo>
                  <a:lnTo>
                    <a:pt x="123" y="66"/>
                  </a:lnTo>
                  <a:lnTo>
                    <a:pt x="184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83680" y="2553840"/>
              <a:ext cx="186120" cy="86400"/>
            </a:xfrm>
            <a:custGeom>
              <a:avLst/>
              <a:gdLst/>
              <a:ahLst/>
              <a:rect l="l" t="t" r="r" b="b"/>
              <a:pathLst>
                <a:path w="246" h="117">
                  <a:moveTo>
                    <a:pt x="0" y="117"/>
                  </a:moveTo>
                  <a:lnTo>
                    <a:pt x="62" y="86"/>
                  </a:lnTo>
                  <a:lnTo>
                    <a:pt x="123" y="56"/>
                  </a:lnTo>
                  <a:lnTo>
                    <a:pt x="184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0160" y="2479680"/>
              <a:ext cx="185760" cy="74160"/>
            </a:xfrm>
            <a:custGeom>
              <a:avLst/>
              <a:gdLst/>
              <a:ahLst/>
              <a:rect l="l" t="t" r="r" b="b"/>
              <a:pathLst>
                <a:path w="248" h="98">
                  <a:moveTo>
                    <a:pt x="0" y="98"/>
                  </a:moveTo>
                  <a:lnTo>
                    <a:pt x="62" y="72"/>
                  </a:lnTo>
                  <a:lnTo>
                    <a:pt x="124" y="4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5920" y="2415240"/>
              <a:ext cx="186120" cy="64080"/>
            </a:xfrm>
            <a:custGeom>
              <a:avLst/>
              <a:gdLst/>
              <a:ahLst/>
              <a:rect l="l" t="t" r="r" b="b"/>
              <a:pathLst>
                <a:path w="246" h="87">
                  <a:moveTo>
                    <a:pt x="0" y="87"/>
                  </a:moveTo>
                  <a:lnTo>
                    <a:pt x="124" y="4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2040" y="2358720"/>
              <a:ext cx="18576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62" y="57"/>
                  </a:lnTo>
                  <a:lnTo>
                    <a:pt x="122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9"/>
                  </a:lnTo>
                  <a:lnTo>
                    <a:pt x="77" y="296"/>
                  </a:lnTo>
                  <a:lnTo>
                    <a:pt x="93" y="265"/>
                  </a:lnTo>
                  <a:lnTo>
                    <a:pt x="108" y="236"/>
                  </a:lnTo>
                  <a:lnTo>
                    <a:pt x="122" y="208"/>
                  </a:lnTo>
                  <a:lnTo>
                    <a:pt x="153" y="155"/>
                  </a:lnTo>
                  <a:lnTo>
                    <a:pt x="184" y="103"/>
                  </a:lnTo>
                  <a:lnTo>
                    <a:pt x="215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79400" y="3006360"/>
              <a:ext cx="187200" cy="276480"/>
            </a:xfrm>
            <a:custGeom>
              <a:avLst/>
              <a:gdLst/>
              <a:ahLst/>
              <a:rect l="l" t="t" r="r" b="b"/>
              <a:pathLst>
                <a:path w="248" h="371">
                  <a:moveTo>
                    <a:pt x="0" y="371"/>
                  </a:moveTo>
                  <a:lnTo>
                    <a:pt x="31" y="319"/>
                  </a:lnTo>
                  <a:lnTo>
                    <a:pt x="62" y="268"/>
                  </a:lnTo>
                  <a:lnTo>
                    <a:pt x="93" y="219"/>
                  </a:lnTo>
                  <a:lnTo>
                    <a:pt x="124" y="174"/>
                  </a:lnTo>
                  <a:lnTo>
                    <a:pt x="155" y="128"/>
                  </a:lnTo>
                  <a:lnTo>
                    <a:pt x="186" y="84"/>
                  </a:lnTo>
                  <a:lnTo>
                    <a:pt x="217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6960" y="2799360"/>
              <a:ext cx="185760" cy="206640"/>
            </a:xfrm>
            <a:custGeom>
              <a:avLst/>
              <a:gdLst/>
              <a:ahLst/>
              <a:rect l="l" t="t" r="r" b="b"/>
              <a:pathLst>
                <a:path w="246" h="279">
                  <a:moveTo>
                    <a:pt x="0" y="279"/>
                  </a:moveTo>
                  <a:lnTo>
                    <a:pt x="31" y="239"/>
                  </a:lnTo>
                  <a:lnTo>
                    <a:pt x="62" y="202"/>
                  </a:lnTo>
                  <a:lnTo>
                    <a:pt x="93" y="168"/>
                  </a:lnTo>
                  <a:lnTo>
                    <a:pt x="123" y="134"/>
                  </a:lnTo>
                  <a:lnTo>
                    <a:pt x="184" y="68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52720" y="2590920"/>
              <a:ext cx="185760" cy="20844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31" y="245"/>
                  </a:lnTo>
                  <a:lnTo>
                    <a:pt x="62" y="208"/>
                  </a:lnTo>
                  <a:lnTo>
                    <a:pt x="122" y="136"/>
                  </a:lnTo>
                  <a:lnTo>
                    <a:pt x="153" y="99"/>
                  </a:lnTo>
                  <a:lnTo>
                    <a:pt x="184" y="65"/>
                  </a:lnTo>
                  <a:lnTo>
                    <a:pt x="215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8480" y="2442240"/>
              <a:ext cx="186120" cy="148680"/>
            </a:xfrm>
            <a:custGeom>
              <a:avLst/>
              <a:gdLst/>
              <a:ahLst/>
              <a:rect l="l" t="t" r="r" b="b"/>
              <a:pathLst>
                <a:path w="246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2" y="92"/>
                  </a:lnTo>
                  <a:lnTo>
                    <a:pt x="184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4600" y="2328840"/>
              <a:ext cx="187200" cy="11304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2" y="111"/>
                  </a:lnTo>
                  <a:lnTo>
                    <a:pt x="124" y="72"/>
                  </a:lnTo>
                  <a:lnTo>
                    <a:pt x="185" y="36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2160" y="223524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97920" y="215640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3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3680" y="208800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70160" y="2026800"/>
              <a:ext cx="185760" cy="6084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55920" y="1973160"/>
              <a:ext cx="18612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4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1924200"/>
              <a:ext cx="185760" cy="48600"/>
            </a:xfrm>
            <a:custGeom>
              <a:avLst/>
              <a:gdLst/>
              <a:ahLst/>
              <a:rect l="l" t="t" r="r" b="b"/>
              <a:pathLst>
                <a:path w="246" h="66">
                  <a:moveTo>
                    <a:pt x="0" y="66"/>
                  </a:moveTo>
                  <a:lnTo>
                    <a:pt x="122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7"/>
                  </a:lnTo>
                  <a:lnTo>
                    <a:pt x="77" y="295"/>
                  </a:lnTo>
                  <a:lnTo>
                    <a:pt x="93" y="264"/>
                  </a:lnTo>
                  <a:lnTo>
                    <a:pt x="108" y="234"/>
                  </a:lnTo>
                  <a:lnTo>
                    <a:pt x="122" y="206"/>
                  </a:lnTo>
                  <a:lnTo>
                    <a:pt x="153" y="152"/>
                  </a:lnTo>
                  <a:lnTo>
                    <a:pt x="184" y="100"/>
                  </a:lnTo>
                  <a:lnTo>
                    <a:pt x="215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79400" y="3028680"/>
              <a:ext cx="187200" cy="25416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0" y="342"/>
                  </a:moveTo>
                  <a:lnTo>
                    <a:pt x="31" y="292"/>
                  </a:lnTo>
                  <a:lnTo>
                    <a:pt x="62" y="245"/>
                  </a:lnTo>
                  <a:lnTo>
                    <a:pt x="93" y="199"/>
                  </a:lnTo>
                  <a:lnTo>
                    <a:pt x="124" y="155"/>
                  </a:lnTo>
                  <a:lnTo>
                    <a:pt x="155" y="114"/>
                  </a:lnTo>
                  <a:lnTo>
                    <a:pt x="186" y="74"/>
                  </a:lnTo>
                  <a:lnTo>
                    <a:pt x="217" y="3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66960" y="2858760"/>
              <a:ext cx="185760" cy="169560"/>
            </a:xfrm>
            <a:custGeom>
              <a:avLst/>
              <a:gdLst/>
              <a:ahLst/>
              <a:rect l="l" t="t" r="r" b="b"/>
              <a:pathLst>
                <a:path w="246" h="227">
                  <a:moveTo>
                    <a:pt x="0" y="227"/>
                  </a:moveTo>
                  <a:lnTo>
                    <a:pt x="31" y="193"/>
                  </a:lnTo>
                  <a:lnTo>
                    <a:pt x="62" y="161"/>
                  </a:lnTo>
                  <a:lnTo>
                    <a:pt x="93" y="131"/>
                  </a:lnTo>
                  <a:lnTo>
                    <a:pt x="123" y="103"/>
                  </a:lnTo>
                  <a:lnTo>
                    <a:pt x="153" y="77"/>
                  </a:lnTo>
                  <a:lnTo>
                    <a:pt x="184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2720" y="2732400"/>
              <a:ext cx="185760" cy="126360"/>
            </a:xfrm>
            <a:custGeom>
              <a:avLst/>
              <a:gdLst/>
              <a:ahLst/>
              <a:rect l="l" t="t" r="r" b="b"/>
              <a:pathLst>
                <a:path w="246" h="171">
                  <a:moveTo>
                    <a:pt x="0" y="171"/>
                  </a:moveTo>
                  <a:lnTo>
                    <a:pt x="31" y="148"/>
                  </a:lnTo>
                  <a:lnTo>
                    <a:pt x="62" y="124"/>
                  </a:lnTo>
                  <a:lnTo>
                    <a:pt x="122" y="80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8480" y="2629800"/>
              <a:ext cx="186120" cy="10260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0" y="137"/>
                  </a:moveTo>
                  <a:lnTo>
                    <a:pt x="62" y="101"/>
                  </a:lnTo>
                  <a:lnTo>
                    <a:pt x="122" y="65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24600" y="2545200"/>
              <a:ext cx="187200" cy="84600"/>
            </a:xfrm>
            <a:custGeom>
              <a:avLst/>
              <a:gdLst/>
              <a:ahLst/>
              <a:rect l="l" t="t" r="r" b="b"/>
              <a:pathLst>
                <a:path w="247" h="115">
                  <a:moveTo>
                    <a:pt x="0" y="115"/>
                  </a:moveTo>
                  <a:lnTo>
                    <a:pt x="62" y="84"/>
                  </a:lnTo>
                  <a:lnTo>
                    <a:pt x="124" y="55"/>
                  </a:lnTo>
                  <a:lnTo>
                    <a:pt x="185" y="2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12160" y="2472120"/>
              <a:ext cx="185760" cy="72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0" y="97"/>
                  </a:moveTo>
                  <a:lnTo>
                    <a:pt x="62" y="71"/>
                  </a:lnTo>
                  <a:lnTo>
                    <a:pt x="12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97920" y="2408040"/>
              <a:ext cx="185760" cy="6408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0" y="85"/>
                  </a:moveTo>
                  <a:lnTo>
                    <a:pt x="123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83680" y="2351160"/>
              <a:ext cx="18612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123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70160" y="230076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68">
                  <a:moveTo>
                    <a:pt x="0" y="68"/>
                  </a:moveTo>
                  <a:lnTo>
                    <a:pt x="124" y="33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55920" y="2254680"/>
              <a:ext cx="186120" cy="457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42040" y="2212920"/>
              <a:ext cx="185760" cy="4176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0" y="56"/>
                  </a:moveTo>
                  <a:lnTo>
                    <a:pt x="122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24600" y="2275200"/>
              <a:ext cx="187200" cy="354240"/>
            </a:xfrm>
            <a:custGeom>
              <a:avLst/>
              <a:gdLst/>
              <a:ahLst/>
              <a:rect l="l" t="t" r="r" b="b"/>
              <a:pathLst>
                <a:path w="247" h="477">
                  <a:moveTo>
                    <a:pt x="0" y="477"/>
                  </a:moveTo>
                  <a:lnTo>
                    <a:pt x="31" y="417"/>
                  </a:lnTo>
                  <a:lnTo>
                    <a:pt x="62" y="354"/>
                  </a:lnTo>
                  <a:lnTo>
                    <a:pt x="93" y="290"/>
                  </a:lnTo>
                  <a:lnTo>
                    <a:pt x="124" y="227"/>
                  </a:lnTo>
                  <a:lnTo>
                    <a:pt x="154" y="165"/>
                  </a:lnTo>
                  <a:lnTo>
                    <a:pt x="185" y="106"/>
                  </a:lnTo>
                  <a:lnTo>
                    <a:pt x="202" y="77"/>
                  </a:lnTo>
                  <a:lnTo>
                    <a:pt x="216" y="50"/>
                  </a:lnTo>
                  <a:lnTo>
                    <a:pt x="233" y="2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12160" y="206712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6"/>
                  </a:lnTo>
                  <a:lnTo>
                    <a:pt x="46" y="215"/>
                  </a:lnTo>
                  <a:lnTo>
                    <a:pt x="62" y="196"/>
                  </a:lnTo>
                  <a:lnTo>
                    <a:pt x="93" y="161"/>
                  </a:lnTo>
                  <a:lnTo>
                    <a:pt x="124" y="128"/>
                  </a:lnTo>
                  <a:lnTo>
                    <a:pt x="153" y="96"/>
                  </a:lnTo>
                  <a:lnTo>
                    <a:pt x="184" y="65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07520" y="4689720"/>
              <a:ext cx="185760" cy="562680"/>
            </a:xfrm>
            <a:custGeom>
              <a:avLst/>
              <a:gdLst/>
              <a:ahLst/>
              <a:rect l="l" t="t" r="r" b="b"/>
              <a:pathLst>
                <a:path w="246" h="756">
                  <a:moveTo>
                    <a:pt x="0" y="756"/>
                  </a:moveTo>
                  <a:lnTo>
                    <a:pt x="31" y="660"/>
                  </a:lnTo>
                  <a:lnTo>
                    <a:pt x="62" y="561"/>
                  </a:lnTo>
                  <a:lnTo>
                    <a:pt x="93" y="461"/>
                  </a:lnTo>
                  <a:lnTo>
                    <a:pt x="122" y="362"/>
                  </a:lnTo>
                  <a:lnTo>
                    <a:pt x="153" y="265"/>
                  </a:lnTo>
                  <a:lnTo>
                    <a:pt x="170" y="218"/>
                  </a:lnTo>
                  <a:lnTo>
                    <a:pt x="184" y="172"/>
                  </a:lnTo>
                  <a:lnTo>
                    <a:pt x="201" y="126"/>
                  </a:lnTo>
                  <a:lnTo>
                    <a:pt x="215" y="82"/>
                  </a:lnTo>
                  <a:lnTo>
                    <a:pt x="231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3280" y="4307400"/>
              <a:ext cx="186120" cy="382320"/>
            </a:xfrm>
            <a:custGeom>
              <a:avLst/>
              <a:gdLst/>
              <a:ahLst/>
              <a:rect l="l" t="t" r="r" b="b"/>
              <a:pathLst>
                <a:path w="246" h="516">
                  <a:moveTo>
                    <a:pt x="0" y="516"/>
                  </a:moveTo>
                  <a:lnTo>
                    <a:pt x="15" y="476"/>
                  </a:lnTo>
                  <a:lnTo>
                    <a:pt x="31" y="439"/>
                  </a:lnTo>
                  <a:lnTo>
                    <a:pt x="46" y="402"/>
                  </a:lnTo>
                  <a:lnTo>
                    <a:pt x="62" y="367"/>
                  </a:lnTo>
                  <a:lnTo>
                    <a:pt x="93" y="299"/>
                  </a:lnTo>
                  <a:lnTo>
                    <a:pt x="122" y="234"/>
                  </a:lnTo>
                  <a:lnTo>
                    <a:pt x="153" y="173"/>
                  </a:lnTo>
                  <a:lnTo>
                    <a:pt x="184" y="114"/>
                  </a:lnTo>
                  <a:lnTo>
                    <a:pt x="215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79400" y="4024440"/>
              <a:ext cx="187200" cy="282600"/>
            </a:xfrm>
            <a:custGeom>
              <a:avLst/>
              <a:gdLst/>
              <a:ahLst/>
              <a:rect l="l" t="t" r="r" b="b"/>
              <a:pathLst>
                <a:path w="248" h="380">
                  <a:moveTo>
                    <a:pt x="0" y="380"/>
                  </a:moveTo>
                  <a:lnTo>
                    <a:pt x="31" y="326"/>
                  </a:lnTo>
                  <a:lnTo>
                    <a:pt x="62" y="273"/>
                  </a:lnTo>
                  <a:lnTo>
                    <a:pt x="93" y="221"/>
                  </a:lnTo>
                  <a:lnTo>
                    <a:pt x="124" y="172"/>
                  </a:lnTo>
                  <a:lnTo>
                    <a:pt x="155" y="127"/>
                  </a:lnTo>
                  <a:lnTo>
                    <a:pt x="186" y="83"/>
                  </a:lnTo>
                  <a:lnTo>
                    <a:pt x="217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66960" y="3843000"/>
              <a:ext cx="185760" cy="181440"/>
            </a:xfrm>
            <a:custGeom>
              <a:avLst/>
              <a:gdLst/>
              <a:ahLst/>
              <a:rect l="l" t="t" r="r" b="b"/>
              <a:pathLst>
                <a:path w="246" h="243">
                  <a:moveTo>
                    <a:pt x="0" y="243"/>
                  </a:moveTo>
                  <a:lnTo>
                    <a:pt x="31" y="206"/>
                  </a:lnTo>
                  <a:lnTo>
                    <a:pt x="62" y="171"/>
                  </a:lnTo>
                  <a:lnTo>
                    <a:pt x="93" y="138"/>
                  </a:lnTo>
                  <a:lnTo>
                    <a:pt x="123" y="109"/>
                  </a:lnTo>
                  <a:lnTo>
                    <a:pt x="153" y="81"/>
                  </a:lnTo>
                  <a:lnTo>
                    <a:pt x="184" y="5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52720" y="3708720"/>
              <a:ext cx="185760" cy="13392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0" y="180"/>
                  </a:moveTo>
                  <a:lnTo>
                    <a:pt x="31" y="155"/>
                  </a:lnTo>
                  <a:lnTo>
                    <a:pt x="62" y="130"/>
                  </a:lnTo>
                  <a:lnTo>
                    <a:pt x="122" y="84"/>
                  </a:lnTo>
                  <a:lnTo>
                    <a:pt x="184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38480" y="3603240"/>
              <a:ext cx="186120" cy="105480"/>
            </a:xfrm>
            <a:custGeom>
              <a:avLst/>
              <a:gdLst/>
              <a:ahLst/>
              <a:rect l="l" t="t" r="r" b="b"/>
              <a:pathLst>
                <a:path w="246" h="143">
                  <a:moveTo>
                    <a:pt x="0" y="143"/>
                  </a:moveTo>
                  <a:lnTo>
                    <a:pt x="62" y="105"/>
                  </a:lnTo>
                  <a:lnTo>
                    <a:pt x="122" y="68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24600" y="3515400"/>
              <a:ext cx="187200" cy="87480"/>
            </a:xfrm>
            <a:custGeom>
              <a:avLst/>
              <a:gdLst/>
              <a:ahLst/>
              <a:rect l="l" t="t" r="r" b="b"/>
              <a:pathLst>
                <a:path w="247" h="118">
                  <a:moveTo>
                    <a:pt x="0" y="118"/>
                  </a:moveTo>
                  <a:lnTo>
                    <a:pt x="62" y="87"/>
                  </a:lnTo>
                  <a:lnTo>
                    <a:pt x="124" y="56"/>
                  </a:lnTo>
                  <a:lnTo>
                    <a:pt x="185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12160" y="3440880"/>
              <a:ext cx="185760" cy="74520"/>
            </a:xfrm>
            <a:custGeom>
              <a:avLst/>
              <a:gdLst/>
              <a:ahLst/>
              <a:rect l="l" t="t" r="r" b="b"/>
              <a:pathLst>
                <a:path w="246" h="100">
                  <a:moveTo>
                    <a:pt x="0" y="100"/>
                  </a:moveTo>
                  <a:lnTo>
                    <a:pt x="62" y="74"/>
                  </a:lnTo>
                  <a:lnTo>
                    <a:pt x="124" y="4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97920" y="3373920"/>
              <a:ext cx="185760" cy="66600"/>
            </a:xfrm>
            <a:custGeom>
              <a:avLst/>
              <a:gdLst/>
              <a:ahLst/>
              <a:rect l="l" t="t" r="r" b="b"/>
              <a:pathLst>
                <a:path w="246" h="88">
                  <a:moveTo>
                    <a:pt x="0" y="88"/>
                  </a:moveTo>
                  <a:lnTo>
                    <a:pt x="123" y="4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83680" y="3315960"/>
              <a:ext cx="186120" cy="579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78"/>
                  </a:moveTo>
                  <a:lnTo>
                    <a:pt x="123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70160" y="326520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70">
                  <a:moveTo>
                    <a:pt x="0" y="70"/>
                  </a:moveTo>
                  <a:lnTo>
                    <a:pt x="124" y="34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55920" y="3217680"/>
              <a:ext cx="186120" cy="475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42040" y="3174480"/>
              <a:ext cx="18576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0440" y="5720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8640" y="45396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6480" y="3359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5400" y="217872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5400" y="99720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340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64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9600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27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82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032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2236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5224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920" y="62215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-1237320" y="3203640"/>
              <a:ext cx="342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grated Aperture (km^2*str*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0000" y="4631760"/>
              <a:ext cx="87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Fly'e E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98880" y="40572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G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6720" y="3528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H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11240" y="286200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uger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71800" y="21492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cccc"/>
                  </a:solidFill>
                  <a:latin typeface="Arial"/>
                </a:rPr>
                <a:t>E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59400" y="2799360"/>
              <a:ext cx="79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uger-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42240" y="1650240"/>
              <a:ext cx="112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Auger(S+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82800" y="358956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351080" y="1989000"/>
            <a:ext cx="5813280" cy="3749760"/>
          </a:xfrm>
          <a:custGeom>
            <a:avLst/>
            <a:gdLst/>
            <a:ahLst/>
            <a:rect l="l" t="t" r="r" b="b"/>
            <a:pathLst>
              <a:path w="3662" h="2362">
                <a:moveTo>
                  <a:pt x="0" y="2362"/>
                </a:moveTo>
                <a:cubicBezTo>
                  <a:pt x="58" y="2307"/>
                  <a:pt x="208" y="2144"/>
                  <a:pt x="351" y="2041"/>
                </a:cubicBezTo>
                <a:cubicBezTo>
                  <a:pt x="494" y="1938"/>
                  <a:pt x="718" y="1824"/>
                  <a:pt x="860" y="1744"/>
                </a:cubicBezTo>
                <a:cubicBezTo>
                  <a:pt x="1002" y="1664"/>
                  <a:pt x="1061" y="1628"/>
                  <a:pt x="1203" y="1560"/>
                </a:cubicBezTo>
                <a:cubicBezTo>
                  <a:pt x="1345" y="1492"/>
                  <a:pt x="1572" y="1397"/>
                  <a:pt x="1712" y="1335"/>
                </a:cubicBezTo>
                <a:cubicBezTo>
                  <a:pt x="1852" y="1273"/>
                  <a:pt x="1940" y="1238"/>
                  <a:pt x="2046" y="1185"/>
                </a:cubicBezTo>
                <a:cubicBezTo>
                  <a:pt x="2152" y="1132"/>
                  <a:pt x="2256" y="1101"/>
                  <a:pt x="2346" y="1018"/>
                </a:cubicBezTo>
                <a:cubicBezTo>
                  <a:pt x="2436" y="935"/>
                  <a:pt x="2495" y="801"/>
                  <a:pt x="2588" y="684"/>
                </a:cubicBezTo>
                <a:cubicBezTo>
                  <a:pt x="2681" y="567"/>
                  <a:pt x="2792" y="411"/>
                  <a:pt x="2906" y="316"/>
                </a:cubicBezTo>
                <a:cubicBezTo>
                  <a:pt x="3020" y="221"/>
                  <a:pt x="3147" y="169"/>
                  <a:pt x="3273" y="116"/>
                </a:cubicBezTo>
                <a:cubicBezTo>
                  <a:pt x="3399" y="63"/>
                  <a:pt x="3581" y="24"/>
                  <a:pt x="3662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C55-6E6C-4F0B-BA36-5D0F5BC8D29E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21C91-313F-43C0-92B7-44B26D45ADF5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55640" y="362520"/>
            <a:ext cx="6129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Gravitation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r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URIG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i-Grai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UAL R&amp;D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OG (Nautilus + Explo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) 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o-600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R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SA Pathfinder/L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Underground Interferome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60720" y="2349360"/>
            <a:ext cx="397548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GO:  260 M€ (US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dv.Ligo: +210 M€ (d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IRGO: 85 M€ (cap.inv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SA: 200 M€ (ESA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UI: 200 M€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639-750E-4E99-8E28-52B009116AA4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5DFB1-6B5A-459F-B020-0D6920CF5E22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11280" y="397080"/>
            <a:ext cx="6983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Low Energy Neutrin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Proton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V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orex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NO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ACIER    (100 kton LAr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NA          (50 kt scintillator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MEMPHYS (Water Megatonne)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58920" y="4005360"/>
            <a:ext cx="22305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500-800 M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5960" y="580536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~ 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340000" y="5157360"/>
            <a:ext cx="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16A-3086-4A32-A8BA-CA34C5E00D59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6C471-8F10-4E2B-BB53-96718E1795F8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process of cooperation and concentration is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 community has a lead position in many field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infancy to maturity: the past 1-2 decades have born the instruments &amp; methods for doing science with high discovery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lerated increase in sensitivity in nearly al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admap will reflect this process, make the physics case to funding agencies and the outsid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8160" y="5445000"/>
            <a:ext cx="83919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live in an exciting period. Lets make use of the chanc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146-989C-4724-B6E8-1D49BEE24E2C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09F26-4EB7-4D05-A7B5-9AF9E2F8230A}" type="datetime1">
              <a:rPr lang="en-US"/>
              <a:t>07/29/26</a:t>
            </a:fld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pen sessions not clearly enough advertised as open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 reasonable but often too minim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did not reach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ey even did not reach the presenters (if not inoffici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asonable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M3Net design study profited from PRC recommendations via communication channels between SC and Bru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 translated PRC recommendations to a support for I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mmon understanding among the PRC members and style of discussion form a good basis for roadmap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Comments on PRC Work and Imp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A61-BADF-47A8-A33E-14649F05279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810DC-09A2-4B69-8807-6EFEEC10DCF4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re transparen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pPEC web page  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https://ptweb.desy.de/ap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raft of Roadmap will be placed to the web for discussion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ll improve will advent of  ApPE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sentation of plans to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AUP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is Town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oadmap Meeting in April/May 2006 (see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change of information with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r contacts between ILIAS, HEAPNET and ApPEC P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lans for Impro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5EF-7B5D-42B9-A3BF-27814F70FB9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AFDE4-A86C-4454-934D-F00FA21B9AE6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eering Committee has charged PRC to write a roadmap on Astroparticle Physics in Europe over the next 10 years, with a focus to the next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mote astroparticle phys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imulate coordination and cooperation within the European APP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pare future decisions on National and Europea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476280"/>
            <a:ext cx="60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664-E67E-4EC0-B545-1552E28A923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5451F-BBBC-4323-8BB7-5AD968248570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ees of the roadmap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ional funding a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physic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own community (shaping and rationalize our view on goals and prioriti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EC roadmap will take note of existing national roadmaps. For national roadmaps being writt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xchange of views and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put to ESFRI and FP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ose connection to ILIAS, HEAPNE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A84-21D4-459F-BBB9-8B5DEBD2EBC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3250F-485F-48DF-9BC8-4B416C67F924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inte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l the field to the outsid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coordination and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the development of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fy critical points for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will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lare decisions w. r. t. experiments and techniques which have to be taken by the cooperating/competing expert groups working in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333360"/>
            <a:ext cx="81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is the intention of the roadmap, and what n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784-1D28-4A33-AF83-BEE6EE8D326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DCE2B-5D33-49C8-A16C-F5537E3EFED4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3810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k Avig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 Bernab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Bergho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onid Bezru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rre Binetr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s Blu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sten Danz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z v. Feilitz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ique F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ner Hof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Iliopo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i K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32000" y="1628280"/>
            <a:ext cx="3809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olo Lip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el Martin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io Mas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oit M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sco Ro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Ru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ir Sar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nther Si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ard Smad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el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 Spi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n Wa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FFE-BE48-465C-83FC-593DE16FC7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E9C9A-8A4F-47FA-98F3-86CED4E4F289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7:14:56Z</dcterms:created>
  <dc:creator>csspier</dc:creator>
  <dc:description/>
  <dc:language>en-US</dc:language>
  <cp:lastModifiedBy>nb29</cp:lastModifiedBy>
  <dcterms:modified xsi:type="dcterms:W3CDTF">2005-11-25T09:20:38Z</dcterms:modified>
  <cp:revision>55</cp:revision>
  <dc:subject/>
  <dc:title>PowerPoint-Präsentation</dc:title>
</cp:coreProperties>
</file>